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8.png" ContentType="image/png"/>
  <Override PartName="/ppt/media/image15.jpeg" ContentType="image/jpeg"/>
  <Override PartName="/ppt/media/image16.gif" ContentType="image/gif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6516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6516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032600" y="6637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7236000" cy="218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20" y="66103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 of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032600" y="6637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8"/>
          <a:stretch/>
        </p:blipFill>
        <p:spPr>
          <a:xfrm>
            <a:off x="0" y="549360"/>
            <a:ext cx="7236000" cy="21888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9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20040"/>
            <a:ext cx="11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2575-BCE3-42DE-91CE-0C5840D47DAB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of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237960" y="82440"/>
            <a:ext cx="360360" cy="360360"/>
            <a:chOff x="237960" y="82440"/>
            <a:chExt cx="360360" cy="360360"/>
          </a:xfrm>
        </p:grpSpPr>
        <p:grpSp>
          <p:nvGrpSpPr>
            <p:cNvPr id="15" name=""/>
            <p:cNvGrpSpPr/>
            <p:nvPr/>
          </p:nvGrpSpPr>
          <p:grpSpPr>
            <a:xfrm>
              <a:off x="237960" y="82440"/>
              <a:ext cx="360360" cy="360360"/>
              <a:chOff x="237960" y="82440"/>
              <a:chExt cx="360360" cy="36036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237960" y="82440"/>
                <a:ext cx="360360" cy="360360"/>
                <a:chOff x="237960" y="82440"/>
                <a:chExt cx="360360" cy="3603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237960" y="82440"/>
                  <a:ext cx="360360" cy="360360"/>
                </a:xfrm>
                <a:prstGeom prst="ellipse">
                  <a:avLst/>
                </a:prstGeom>
                <a:solidFill>
                  <a:srgbClr val="01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64600" y="108000"/>
                  <a:ext cx="308880" cy="30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" name=""/>
              <p:cNvSpPr/>
              <p:nvPr/>
            </p:nvSpPr>
            <p:spPr>
              <a:xfrm>
                <a:off x="268200" y="109800"/>
                <a:ext cx="303480" cy="3034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" name="" descr=""/>
            <p:cNvPicPr/>
            <p:nvPr/>
          </p:nvPicPr>
          <p:blipFill>
            <a:blip r:embed="rId12"/>
            <a:srcRect l="0" t="0" r="23623" b="0"/>
            <a:stretch/>
          </p:blipFill>
          <p:spPr>
            <a:xfrm>
              <a:off x="272880" y="179280"/>
              <a:ext cx="2300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13"/>
            <a:stretch/>
          </p:blipFill>
          <p:spPr>
            <a:xfrm>
              <a:off x="412560" y="129960"/>
              <a:ext cx="125280" cy="12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32600" y="6637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20" y="6607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 of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32600" y="6637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620040"/>
            <a:ext cx="11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25E7-DAFB-426F-8AC7-074121D31163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of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9440" y="773280"/>
            <a:ext cx="5578560" cy="5578200"/>
          </a:xfrm>
          <a:prstGeom prst="ellipse">
            <a:avLst/>
          </a:prstGeom>
          <a:solidFill>
            <a:srgbClr val="01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37200" y="466560"/>
            <a:ext cx="2266920" cy="2267280"/>
          </a:xfrm>
          <a:prstGeom prst="ellipse">
            <a:avLst/>
          </a:prstGeom>
          <a:solidFill>
            <a:srgbClr val="01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575080"/>
            <a:ext cx="2266920" cy="2266920"/>
          </a:xfrm>
          <a:prstGeom prst="ellipse">
            <a:avLst/>
          </a:prstGeom>
          <a:solidFill>
            <a:srgbClr val="01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2360" y="928800"/>
            <a:ext cx="5289480" cy="5289480"/>
          </a:xfrm>
          <a:prstGeom prst="ellipse">
            <a:avLst/>
          </a:prstGeom>
          <a:noFill/>
          <a:ln w="27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24640" y="6208560"/>
            <a:ext cx="952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396720" y="1052640"/>
            <a:ext cx="5038920" cy="5038560"/>
            <a:chOff x="396720" y="1052640"/>
            <a:chExt cx="5038920" cy="5038560"/>
          </a:xfrm>
        </p:grpSpPr>
        <p:sp>
          <p:nvSpPr>
            <p:cNvPr id="112" name=""/>
            <p:cNvSpPr/>
            <p:nvPr/>
          </p:nvSpPr>
          <p:spPr>
            <a:xfrm>
              <a:off x="396720" y="1052640"/>
              <a:ext cx="5038920" cy="503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rcRect l="0" t="0" r="23623" b="0"/>
            <a:stretch/>
          </p:blipFill>
          <p:spPr>
            <a:xfrm>
              <a:off x="541440" y="2411280"/>
              <a:ext cx="351792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2762280" y="1406520"/>
              <a:ext cx="2093760" cy="20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5229360" y="549360"/>
            <a:ext cx="2087280" cy="2087640"/>
            <a:chOff x="5229360" y="549360"/>
            <a:chExt cx="2087280" cy="2087640"/>
          </a:xfrm>
        </p:grpSpPr>
        <p:sp>
          <p:nvSpPr>
            <p:cNvPr id="116" name=""/>
            <p:cNvSpPr/>
            <p:nvPr/>
          </p:nvSpPr>
          <p:spPr>
            <a:xfrm>
              <a:off x="5229360" y="549360"/>
              <a:ext cx="2087280" cy="2087640"/>
            </a:xfrm>
            <a:prstGeom prst="ellipse">
              <a:avLst/>
            </a:prstGeom>
            <a:solidFill>
              <a:srgbClr val="ff00ff"/>
            </a:solidFill>
            <a:ln w="17784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rcRect l="0" t="0" r="18898" b="0"/>
            <a:stretch/>
          </p:blipFill>
          <p:spPr>
            <a:xfrm>
              <a:off x="5392800" y="703440"/>
              <a:ext cx="190332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5597640" y="2664000"/>
            <a:ext cx="2087280" cy="2087280"/>
            <a:chOff x="5597640" y="2664000"/>
            <a:chExt cx="2087280" cy="2087280"/>
          </a:xfrm>
        </p:grpSpPr>
        <p:sp>
          <p:nvSpPr>
            <p:cNvPr id="119" name=""/>
            <p:cNvSpPr/>
            <p:nvPr/>
          </p:nvSpPr>
          <p:spPr>
            <a:xfrm>
              <a:off x="5597640" y="2664000"/>
              <a:ext cx="2087280" cy="2087280"/>
            </a:xfrm>
            <a:prstGeom prst="ellipse">
              <a:avLst/>
            </a:prstGeom>
            <a:solidFill>
              <a:srgbClr val="ff00ff"/>
            </a:solidFill>
            <a:ln w="17784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761080" y="2819520"/>
              <a:ext cx="1763640" cy="17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 txBox="1"/>
          <p:nvPr/>
        </p:nvSpPr>
        <p:spPr>
          <a:xfrm>
            <a:off x="376920" y="313560"/>
            <a:ext cx="4861800" cy="731160"/>
          </a:xfrm>
          <a:prstGeom prst="rect">
            <a:avLst/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S3 Physics</a:t>
            </a:r>
            <a:endParaRPr b="1" lang="en-US" sz="4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700520" y="4997520"/>
            <a:ext cx="4206960" cy="750960"/>
          </a:xfrm>
          <a:prstGeom prst="rect">
            <a:avLst/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K Forces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eir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73120" y="7034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riction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lways tries to slow moving objects down.  We say it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opposes motion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4005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re is a maximum value for the frictional force which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ore about friction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880" y="179532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riction is created whenever two touching objects or surfaces move pas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9880" y="2890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riction also occurs when things move through air.  This is called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ir resistanc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ra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49258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orce pushing the two surfaces togeth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520" y="54658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state of the surfaces in cont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06640" y="1670040"/>
            <a:ext cx="7332480" cy="4343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584520" y="3129120"/>
            <a:ext cx="288936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more?  Probably the most importan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7000" y="70056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abel all sources of friction that can act on this b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85800" y="5899320"/>
            <a:ext cx="1886040" cy="627480"/>
            <a:chOff x="685800" y="5899320"/>
            <a:chExt cx="1886040" cy="627480"/>
          </a:xfrm>
        </p:grpSpPr>
        <p:sp>
          <p:nvSpPr>
            <p:cNvPr id="204" name=""/>
            <p:cNvSpPr/>
            <p:nvPr/>
          </p:nvSpPr>
          <p:spPr>
            <a:xfrm>
              <a:off x="685800" y="6127920"/>
              <a:ext cx="188604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yre and r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816200" y="5899320"/>
              <a:ext cx="698400" cy="2347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540120" y="1103400"/>
            <a:ext cx="2300760" cy="2401920"/>
            <a:chOff x="6540120" y="1103400"/>
            <a:chExt cx="2300760" cy="2401920"/>
          </a:xfrm>
        </p:grpSpPr>
        <p:sp>
          <p:nvSpPr>
            <p:cNvPr id="207" name=""/>
            <p:cNvSpPr/>
            <p:nvPr/>
          </p:nvSpPr>
          <p:spPr>
            <a:xfrm flipH="1">
              <a:off x="6540120" y="1562040"/>
              <a:ext cx="482760" cy="19432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54840" y="1103400"/>
              <a:ext cx="1886040" cy="703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rake pad and r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858000" y="2309760"/>
            <a:ext cx="2286000" cy="2205000"/>
            <a:chOff x="6858000" y="2309760"/>
            <a:chExt cx="2286000" cy="2205000"/>
          </a:xfrm>
        </p:grpSpPr>
        <p:sp>
          <p:nvSpPr>
            <p:cNvPr id="210" name=""/>
            <p:cNvSpPr/>
            <p:nvPr/>
          </p:nvSpPr>
          <p:spPr>
            <a:xfrm flipH="1">
              <a:off x="6858000" y="2647800"/>
              <a:ext cx="1168560" cy="186696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18280" y="2309760"/>
              <a:ext cx="202572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eel be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3160" y="2068560"/>
            <a:ext cx="2315880" cy="2585880"/>
            <a:chOff x="173160" y="2068560"/>
            <a:chExt cx="2315880" cy="2585880"/>
          </a:xfrm>
        </p:grpSpPr>
        <p:sp>
          <p:nvSpPr>
            <p:cNvPr id="213" name=""/>
            <p:cNvSpPr/>
            <p:nvPr/>
          </p:nvSpPr>
          <p:spPr>
            <a:xfrm>
              <a:off x="965160" y="2482920"/>
              <a:ext cx="1523880" cy="2171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3160" y="2068560"/>
              <a:ext cx="1136520" cy="703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eel be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811160" y="1878120"/>
            <a:ext cx="2481480" cy="2935080"/>
            <a:chOff x="1811160" y="1878120"/>
            <a:chExt cx="2481480" cy="2935080"/>
          </a:xfrm>
        </p:grpSpPr>
        <p:sp>
          <p:nvSpPr>
            <p:cNvPr id="216" name=""/>
            <p:cNvSpPr/>
            <p:nvPr/>
          </p:nvSpPr>
          <p:spPr>
            <a:xfrm>
              <a:off x="2743200" y="2222640"/>
              <a:ext cx="1549440" cy="259056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1160" y="1878120"/>
              <a:ext cx="188604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dal be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301920" y="5257440"/>
            <a:ext cx="2516400" cy="1121400"/>
            <a:chOff x="3301920" y="5257440"/>
            <a:chExt cx="2516400" cy="1121400"/>
          </a:xfrm>
        </p:grpSpPr>
        <p:sp>
          <p:nvSpPr>
            <p:cNvPr id="219" name=""/>
            <p:cNvSpPr/>
            <p:nvPr/>
          </p:nvSpPr>
          <p:spPr>
            <a:xfrm>
              <a:off x="3932280" y="5979960"/>
              <a:ext cx="188604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inks in 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301920" y="5257440"/>
              <a:ext cx="1663920" cy="7873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-4470480" y="2014560"/>
            <a:ext cx="4470480" cy="2727360"/>
          </a:xfrm>
          <a:prstGeom prst="leftArrow">
            <a:avLst>
              <a:gd name="adj1" fmla="val 50000"/>
              <a:gd name="adj2" fmla="val 40978"/>
            </a:avLst>
          </a:prstGeom>
          <a:solidFill>
            <a:srgbClr val="ff0000"/>
          </a:solidFill>
          <a:ln w="257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119400"/>
            <a:ext cx="2895840" cy="3988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resistance or “dra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4960" y="2927520"/>
            <a:ext cx="2819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are the sources of friction?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Effect of frictional force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19040" y="2530440"/>
            <a:ext cx="8293320" cy="35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93960" y="2478240"/>
            <a:ext cx="17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pth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10800" y="40989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440" y="41054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31920" y="558468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939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i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hrus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2640" y="939960"/>
            <a:ext cx="569736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The force that pushes an object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forward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2000" y="17272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i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upthrus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9600" y="1533600"/>
            <a:ext cx="57610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The force that pushes an object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upward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in a liquid or a gas, also called buoya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838600" y="3260880"/>
            <a:ext cx="3474720" cy="2590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rot="5400000">
            <a:off x="2239200" y="3910680"/>
            <a:ext cx="371520" cy="976320"/>
          </a:xfrm>
          <a:prstGeom prst="downArrow">
            <a:avLst>
              <a:gd name="adj1" fmla="val 50000"/>
              <a:gd name="adj2" fmla="val 656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 rot="10800000">
            <a:off x="4386240" y="5095800"/>
            <a:ext cx="371520" cy="519120"/>
          </a:xfrm>
          <a:prstGeom prst="downArrow">
            <a:avLst>
              <a:gd name="adj1" fmla="val 56417"/>
              <a:gd name="adj2" fmla="val 752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rot="10800000">
            <a:off x="4386240" y="3008160"/>
            <a:ext cx="371520" cy="519120"/>
          </a:xfrm>
          <a:prstGeom prst="downArrow">
            <a:avLst>
              <a:gd name="adj1" fmla="val 56417"/>
              <a:gd name="adj2" fmla="val 752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rot="16200000">
            <a:off x="6327000" y="3859920"/>
            <a:ext cx="371520" cy="1077840"/>
          </a:xfrm>
          <a:prstGeom prst="downArrow">
            <a:avLst>
              <a:gd name="adj1" fmla="val 49574"/>
              <a:gd name="adj2" fmla="val 1017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Forces in water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Ferry force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11280" y="458964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happens to the weight of the 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happens to the upthrust on the 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ich is the largest force - weight or upthrust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88320" y="4579920"/>
            <a:ext cx="190476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83280" y="5684760"/>
            <a:ext cx="19051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oth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83280" y="5132520"/>
            <a:ext cx="19051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1840" y="711360"/>
            <a:ext cx="75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erry arrives at Calais and is loaded with travel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hanging force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ShockwaveFlash1"/>
          <p:cNvGraphicFramePr/>
          <p:nvPr/>
        </p:nvGraphicFramePr>
        <p:xfrm>
          <a:off x="955800" y="1197000"/>
          <a:ext cx="7200720" cy="32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5800" y="1197000"/>
                    <a:ext cx="72007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93640" y="905040"/>
            <a:ext cx="6337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ss and weight are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e sa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are mass and weight?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04920" y="1627200"/>
            <a:ext cx="8515080" cy="825480"/>
            <a:chOff x="304920" y="1627200"/>
            <a:chExt cx="8515080" cy="825480"/>
          </a:xfrm>
        </p:grpSpPr>
        <p:sp>
          <p:nvSpPr>
            <p:cNvPr id="287" name=""/>
            <p:cNvSpPr/>
            <p:nvPr/>
          </p:nvSpPr>
          <p:spPr>
            <a:xfrm>
              <a:off x="611280" y="1627200"/>
              <a:ext cx="820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Mass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is the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amount of matter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in an object and is measured in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kilograms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. Mass is not a for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4920" y="1728720"/>
              <a:ext cx="252360" cy="25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4000" y="3776760"/>
            <a:ext cx="8208720" cy="1191240"/>
            <a:chOff x="324000" y="3776760"/>
            <a:chExt cx="8208720" cy="1191240"/>
          </a:xfrm>
        </p:grpSpPr>
        <p:sp>
          <p:nvSpPr>
            <p:cNvPr id="290" name=""/>
            <p:cNvSpPr/>
            <p:nvPr/>
          </p:nvSpPr>
          <p:spPr>
            <a:xfrm>
              <a:off x="611280" y="3776760"/>
              <a:ext cx="792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Weight</a:t>
              </a: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is a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force</a:t>
              </a:r>
              <a:r>
                <a:rPr b="0" lang="en-US" sz="24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and is caused by the pull of gravity acting on a mass. Like other forces, weight is measured in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newtons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and has both magnitude and direction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4000" y="3882960"/>
              <a:ext cx="252360" cy="25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08040" y="2538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will have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4520" y="5054760"/>
            <a:ext cx="80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you are in the Unive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eight and mass on the Moon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2200" y="701640"/>
            <a:ext cx="501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orce of gravity is less on the Moon than it is on Earth. This is because the Moon has a smaller mass than the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084720" y="952560"/>
            <a:ext cx="2476800" cy="4952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04880" y="4537080"/>
            <a:ext cx="531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owever, the astronaut still has the same body and the same mass: he just weighs less because gravity is weaker on the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8960" y="2336760"/>
            <a:ext cx="50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y object will weigh less on the Moon than it does on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5440" y="3257640"/>
            <a:ext cx="50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astronaut could jump 20 feet into the air on the Moon because gravity is l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cc00cc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893880"/>
            <a:ext cx="743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scientist should never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She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weighs</a:t>
            </a:r>
            <a:r>
              <a:rPr b="1" i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50 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ut should always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Talking about weight and mas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8040" y="2538360"/>
            <a:ext cx="74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She has a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of 50 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8480" y="5373720"/>
            <a:ext cx="74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“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Her weight is about 500 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5600" y="336240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lternatively, the scientist could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17760" y="3905280"/>
            <a:ext cx="64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gravitational force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 acting on her mass is about 500 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4880" y="481968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the same as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3000" y="126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eight and mass on different plane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eight or mass?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3280" y="695160"/>
            <a:ext cx="8774280" cy="54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air resistance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frictional force that acts against an object moving through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force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push or a pull, measured in newtons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friction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force that occurs between two surfaces rubbing agains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force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f attraction between two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mass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amount of matter that an object is made of, measured in kilograms (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thrust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force that pushes an object for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upthrust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force that pushes an object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up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weight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force caused by gravity acting on an object,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easured in newtons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Anagram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issing word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ultiple-choice quiz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1560" y="70812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force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us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 pull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wis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 A force cannot be seen but you can see how a force affects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is a force? 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ShockwaveFlash1"/>
          <p:cNvGraphicFramePr/>
          <p:nvPr/>
        </p:nvGraphicFramePr>
        <p:xfrm>
          <a:off x="725400" y="1568520"/>
          <a:ext cx="7696440" cy="469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568520"/>
                    <a:ext cx="769644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Forces activity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1447920"/>
            <a:ext cx="1709640" cy="1406520"/>
            <a:chOff x="0" y="1447920"/>
            <a:chExt cx="1709640" cy="1406520"/>
          </a:xfrm>
        </p:grpSpPr>
        <p:sp>
          <p:nvSpPr>
            <p:cNvPr id="145" name=""/>
            <p:cNvSpPr/>
            <p:nvPr/>
          </p:nvSpPr>
          <p:spPr>
            <a:xfrm>
              <a:off x="0" y="1447920"/>
              <a:ext cx="1709640" cy="1406520"/>
            </a:xfrm>
            <a:prstGeom prst="leftArrow">
              <a:avLst>
                <a:gd name="adj1" fmla="val 50000"/>
                <a:gd name="adj2" fmla="val 303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000" y="187812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0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434360" y="1436760"/>
            <a:ext cx="1833480" cy="1406520"/>
            <a:chOff x="7434360" y="1436760"/>
            <a:chExt cx="1833480" cy="1406520"/>
          </a:xfrm>
        </p:grpSpPr>
        <p:sp>
          <p:nvSpPr>
            <p:cNvPr id="148" name=""/>
            <p:cNvSpPr/>
            <p:nvPr/>
          </p:nvSpPr>
          <p:spPr>
            <a:xfrm>
              <a:off x="7434360" y="1436760"/>
              <a:ext cx="1709640" cy="1406520"/>
            </a:xfrm>
            <a:prstGeom prst="rightArrow">
              <a:avLst>
                <a:gd name="adj1" fmla="val 50000"/>
                <a:gd name="adj2" fmla="val 303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42400" y="187308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0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11280" y="350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you link two forcemeters and pull equally hard from both ends, the forces recorded on both will b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904080" cy="2016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79800" y="1219320"/>
            <a:ext cx="29512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anced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en forces are balanced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960" y="4416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orces acting on the central hooks cancel each other out – they are equal in magnitude and opposite in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8040" y="53262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cause the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orces a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alanc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hook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o not mov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1457280"/>
            <a:ext cx="1709640" cy="1406520"/>
            <a:chOff x="0" y="1457280"/>
            <a:chExt cx="1709640" cy="1406520"/>
          </a:xfrm>
        </p:grpSpPr>
        <p:sp>
          <p:nvSpPr>
            <p:cNvPr id="157" name=""/>
            <p:cNvSpPr/>
            <p:nvPr/>
          </p:nvSpPr>
          <p:spPr>
            <a:xfrm>
              <a:off x="0" y="1457280"/>
              <a:ext cx="1709640" cy="1406520"/>
            </a:xfrm>
            <a:prstGeom prst="leftArrow">
              <a:avLst>
                <a:gd name="adj1" fmla="val 50000"/>
                <a:gd name="adj2" fmla="val 303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520" y="188928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1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434360" y="1446120"/>
            <a:ext cx="1860480" cy="1406520"/>
            <a:chOff x="7434360" y="1446120"/>
            <a:chExt cx="1860480" cy="1406520"/>
          </a:xfrm>
        </p:grpSpPr>
        <p:sp>
          <p:nvSpPr>
            <p:cNvPr id="160" name=""/>
            <p:cNvSpPr/>
            <p:nvPr/>
          </p:nvSpPr>
          <p:spPr>
            <a:xfrm>
              <a:off x="7434360" y="1446120"/>
              <a:ext cx="1709640" cy="1406520"/>
            </a:xfrm>
            <a:prstGeom prst="rightArrow">
              <a:avLst>
                <a:gd name="adj1" fmla="val 50000"/>
                <a:gd name="adj2" fmla="val 303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69400" y="18795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0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904080" cy="201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3360" y="3444840"/>
            <a:ext cx="8361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at happens if the pull on one end is greater than the pull on the other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97200" y="1197000"/>
            <a:ext cx="3529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66"/>
                </a:solidFill>
                <a:latin typeface="Arial"/>
              </a:rPr>
              <a:t>unbalanced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2492280"/>
            <a:ext cx="1623960" cy="549360"/>
          </a:xfrm>
          <a:prstGeom prst="leftArrow">
            <a:avLst>
              <a:gd name="adj1" fmla="val 50000"/>
              <a:gd name="adj2" fmla="val 7390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en forces are unbalanced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0120" y="4356000"/>
            <a:ext cx="83613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orces acting on the hooks are no longer balanc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oth hooks will start to move to the left – their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speed will chang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This is called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120" y="5632560"/>
            <a:ext cx="8361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nbalanced forces lead to a change in speed or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alanced or unbalanced forces? 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77800" y="701640"/>
            <a:ext cx="42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you rub your hands together they get warm. </a:t>
            </a:r>
            <a:br>
              <a:rPr sz="2400"/>
            </a:b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re is resistance to the rubbing mo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3640" y="2349360"/>
            <a:ext cx="38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at is the name of this resistive force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2200" y="4005360"/>
            <a:ext cx="34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at causes this for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2200" y="4676760"/>
            <a:ext cx="830088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Your hands might look smooth, but on a microscopic level they have rough surfaces. So when you rub your hands together you feel the resistive force of fr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is friction?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graphicFrame>
        <p:nvGraphicFramePr>
          <p:cNvPr id="190" name="ShockwaveFlash1"/>
          <p:cNvGraphicFramePr/>
          <p:nvPr/>
        </p:nvGraphicFramePr>
        <p:xfrm>
          <a:off x="4427640" y="752400"/>
          <a:ext cx="45720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752400"/>
                    <a:ext cx="4572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06440" y="33274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t is called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riction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14:30:27Z</dcterms:created>
  <dc:creator>Boardworks Ltd</dc:creator>
  <dc:description/>
  <dc:language>en-US</dc:language>
  <cp:lastModifiedBy>Rosemary Cleary</cp:lastModifiedBy>
  <cp:lastPrinted>2000-09-06T14:07:33Z</cp:lastPrinted>
  <dcterms:modified xsi:type="dcterms:W3CDTF">2006-03-20T12:07:50Z</dcterms:modified>
  <cp:revision>486</cp:revision>
  <dc:subject>KS3 Physics</dc:subject>
  <dc:title>7K Forces and their Effects</dc:title>
</cp:coreProperties>
</file>